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31DF6-6E16-43DB-B3A8-0F17C764D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1E4D-80B3-45BE-9150-9F064D621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3F924-F66D-47F4-AA40-8245B1945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DD5E-9164-4B85-8742-EC77FC0D7F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FE2BF-D78A-429E-B946-35D2211559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E268-C8AB-4CF3-B2D4-D9C74AED1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3B22F-735A-4824-89E1-5C89EBA14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2D11-F20C-461E-BDE9-4FB578ED6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2D15-1CE5-4639-9572-C73E0AB16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FBBE-8662-4D78-B5AA-B05CCBDCE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FD00-643F-4330-B0DB-77A4046FF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347A0-2476-4E21-854C-276FAA50E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1EDA-7007-46FA-AF9E-241A929B5C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487692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EBEF-DDCE-4904-AFDB-71E2107FCA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47242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76000"/>
          </a:bodyPr>
          <a:p>
            <a:pPr marL="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Kindergarten to Grad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595680" y="2881440"/>
            <a:ext cx="2424240" cy="19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Body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1294920"/>
            <a:ext cx="69343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th your partn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cide what fraction would be where your kne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cide what fraction would be where your ey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 you and your partner have the same fractions?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adding tape to che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24A6-7420-43BF-85F7-5D4F780304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172200" y="1295280"/>
            <a:ext cx="2362320" cy="2000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629400" y="3581280"/>
            <a:ext cx="236232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heck for Understand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One person hiked two-thirds of the way on the trail, the other person hiked two-fourths of the w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ho hiked the further dista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How do you know?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76920" y="36576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rticipants w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derstand the use of number line activities to from whole number to fraction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cognize how the number line is different from other fractional representations and its 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derstand the importance of the number line and how understanding its 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cognize the advantages that can be gained by using the number 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Consolidation 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n the back of your number line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 What are some pluses of using the number line when dealing with fr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. What mathematical concepts can be reinforced by using the number l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8377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flect on the Quot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Learning is a treasure that will follow its owner everywher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hinese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8320" y="365760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inds On!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Human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3733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5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3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8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EDCD-F0D8-43BA-85FC-1446873ECA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7193-FC41-47F6-A06C-16A0818A41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2514600"/>
            <a:ext cx="6782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960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495760" y="3724200"/>
            <a:ext cx="3648240" cy="31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inds On!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Human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3048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5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3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8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 your thinking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5996-F54D-41A2-B006-D4114B37BC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39AE-A73B-4A99-8C0D-FEDC986F2D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1905120"/>
            <a:ext cx="6781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057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Minds On!</a:t>
            </a:r>
            <a:br>
              <a:rPr sz="4000"/>
            </a:b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Value Lin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8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55000"/>
          </a:bodyPr>
          <a:p>
            <a:pPr marL="2102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oes this activity have to do with fr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0240" indent="-188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ce yourself on the valu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0240" indent="-188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with your neighbours to ensure you have positioned yourself cor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FB78-CD93-4436-8BCB-98EE499919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4495680"/>
            <a:ext cx="7239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4952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4876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very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457200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48720" y="4495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inds On!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Human Number Line – again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3733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one half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one fourth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three fourths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8057-EF73-4F9E-960C-02602ED755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287C-A151-4843-B836-0FBAF696C2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2514600"/>
            <a:ext cx="6782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960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inds On!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Human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3733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ystery person stands somewhere and the rest figure out what fraction he/she migh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8CD7-50C1-4615-B085-FB5F55DB87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3D84-BB98-4F59-9AE8-06E6E80632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2514600"/>
            <a:ext cx="6782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960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Action!</a:t>
            </a:r>
            <a:br>
              <a:rPr sz="4000"/>
            </a:b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Adding Tape Paper Fold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22856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Pair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can you fold the tape to get hal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can you fold the tape to get fourt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bel your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scuss with your partner, "Why are the fractions different on your various sized adding tape pieces?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295280"/>
            <a:ext cx="739152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dding Tape Paper Fold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Pairs with a new adding tap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can you fold the tape to get thir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would happen if you folded the tape in half ag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bel your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scuss with your partner, "Why are the fractions different on your various sized adding tape pieces?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914400"/>
            <a:ext cx="739152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523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01000" y="1600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Body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th your partn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where these fractions would be on your bodies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one half, one fourth, two th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rk those spots with sti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adding tape to check est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BBB4-03BF-4400-9AA5-1BEDC67260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86680" y="4381560"/>
            <a:ext cx="2857320" cy="2476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Peel District School Board</cp:lastModifiedBy>
  <dcterms:modified xsi:type="dcterms:W3CDTF">2012-07-17T00:30:41Z</dcterms:modified>
  <cp:revision>16</cp:revision>
  <dc:subject/>
  <dc:title>&lt;Title&gt;</dc:title>
</cp:coreProperties>
</file>